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gif" ContentType="image/gif"/>
  <Override PartName="/ppt/media/image7.gif" ContentType="image/gif"/>
  <Override PartName="/ppt/media/image5.jpeg" ContentType="image/jpeg"/>
  <Override PartName="/ppt/media/image6.jpeg" ContentType="image/jpeg"/>
  <Override PartName="/ppt/media/image10.png" ContentType="image/png"/>
  <Override PartName="/ppt/media/image11.gif" ContentType="image/gif"/>
  <Override PartName="/ppt/media/image13.jpeg" ContentType="image/jpeg"/>
  <Override PartName="/ppt/media/image22.gif" ContentType="image/gif"/>
  <Override PartName="/ppt/media/image17.jpeg" ContentType="image/jpeg"/>
  <Override PartName="/ppt/media/image21.gif" ContentType="image/gif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4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9" descr="h rtrae gd jrt ujrt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624440" y="623736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a9337"/>
                </a:solidFill>
                <a:latin typeface="Arial"/>
              </a:rPr>
              <a:t>Page </a:t>
            </a:r>
            <a:fld id="{22C34543-DB9B-4420-AA53-0ED91AA9E8E0}" type="slidenum">
              <a:rPr b="1" lang="fr-FR" sz="1800" spc="-1" strike="noStrike">
                <a:solidFill>
                  <a:srgbClr val="4a9337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youtu.be/Ky9pQYp69JQ" TargetMode="External"/><Relationship Id="rId2" Type="http://schemas.openxmlformats.org/officeDocument/2006/relationships/hyperlink" Target="https://youtu.be/5dNG1AllD-U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66800" y="90360"/>
            <a:ext cx="7297920" cy="18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Государственная организация образования «Кузбасский региональный центр</a:t>
            </a:r>
            <a:br>
              <a:rPr sz="1600"/>
            </a:br>
            <a:r>
              <a:rPr b="1" lang="ru-RU" sz="16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психолого-педагогической, медицинской и социальной помощи</a:t>
            </a:r>
            <a:br>
              <a:rPr sz="1600"/>
            </a:br>
            <a:r>
              <a:rPr b="1" lang="ru-RU" sz="16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«Здоровье и развитие личности»</a:t>
            </a:r>
            <a:br>
              <a:rPr sz="1600"/>
            </a:br>
            <a:r>
              <a:rPr b="1" lang="ru-RU" sz="16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отделение Гурьевского муниципального округа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6" descr="D:\Рабочий стол\CAs8fZ4B_uE.jpg"/>
          <p:cNvPicPr/>
          <p:nvPr/>
        </p:nvPicPr>
        <p:blipFill>
          <a:blip r:embed="rId1"/>
          <a:stretch/>
        </p:blipFill>
        <p:spPr>
          <a:xfrm>
            <a:off x="11160" y="324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Segoe Script"/>
              </a:rPr>
              <a:t>«Приемы развития фонематического слуха, как фактора влияющего на реч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читель – логоп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сакова С.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Угадай голоса животных и птиц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е ребенку вначале прослушать голоса животных и птиц, а затем узнать по голосу животного или пт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youtu.be/Ky9pQYp69JQ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youtu.be/5dNG1AllD-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Хлопушк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повторить за взрослым хлопки в ладоши различной гром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124000" y="3141720"/>
            <a:ext cx="4876920" cy="274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Жмур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должен идти на звук колокольчика, погремушки или любого звучащего предм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2658960" y="3230640"/>
            <a:ext cx="6485040" cy="362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личение высоты, силы, тембра голоса на материале одинаковых звуков. «Поез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29960" y="1341000"/>
            <a:ext cx="742788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ребенку, что когда поезд едет далеко, его плохо слышно, поэтому он сигналит тихо «ту-туу». А когда поезд совсем рядом, он сигналит громко. Потом нужно изображать сигнал поочередно тихим и громким голосом, а ребенок будет угадывать далеко поезд или близко. Можно усложнить, добавив поезд, который едет не далеко и не близко, и угадывать сигналы уже трех поез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916360" y="441972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Угадай по высоте голос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ать небольшую историю про животных: «Жили были папа-кот (корова, собака, гусь…), мама-кошка и их котенок. Папа говорил «мяу-мяу» (сказать низким, грубым голосом), мама говорила «мяу-мяу» (средним по высоте голосом), а котенок пищал «мяу-мяу» (высоким голосом)». Затем попросить ребенка угадать, кто сейчас говорит, произнося «мяу-мяу» разными голосами. Потом можно с ребенком поменяться ро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6597720" y="4336920"/>
            <a:ext cx="2546280" cy="2544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то это?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записать на камеру телефона или диктофон голоса нескольких родственников, знакомых ребенку людей. Дать послушать и попросить угадать, кто гово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411280" y="2657520"/>
            <a:ext cx="6193080" cy="422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личение слов близких по своему звуковому составу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артин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леить или нарисовать на листе бумаги похожие по названию картинки, например, крыса – крыша, мишка – миска, лак – рак , коза – коса и т.д. Взрослый называет слова, а ребенок показывает соответствующую карти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940360" y="3500280"/>
            <a:ext cx="2317680" cy="335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грушки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разные игрушки, выстроить в ряд и называть ребенку. Одну часть игрушек нужно назвать правильно, а другую  - намеренно меняя первую букву, например, тошка – кошка, фобака – собака. Ребенок должен угадывать, когда правильно, а когда н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3419640" y="3882960"/>
            <a:ext cx="3984480" cy="298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личение слогов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Лишний слог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произносит ряд слогов, например, «жу-жу-жу-зу-жу-жу». Услышав лишний слог, ребенок говорит «стоп» или хлопает в ладоши. Можно попросить назвать тот слог, который отличался от друг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baby18.gif"/>
          <p:cNvPicPr/>
          <p:nvPr/>
        </p:nvPicPr>
        <p:blipFill>
          <a:blip r:embed="rId1"/>
          <a:stretch/>
        </p:blipFill>
        <p:spPr>
          <a:xfrm>
            <a:off x="4859280" y="3789360"/>
            <a:ext cx="1649520" cy="239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втори слоги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называет цепочку слогов со звуками схожими по звучанию. Ребенок внимательно слушает, а потом должен воспроизвести в той же последовательности, например, па-па-ба, ка-га-ка, да-та-та, са-за-ца, са-ша-са, ша-ша-ж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9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5" descr="jy tyjze yhj,gazhdf"/>
          <p:cNvPicPr/>
          <p:nvPr/>
        </p:nvPicPr>
        <p:blipFill>
          <a:blip r:embed="rId2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1"/>
          <p:cNvSpPr/>
          <p:nvPr/>
        </p:nvSpPr>
        <p:spPr>
          <a:xfrm>
            <a:off x="1295280" y="260280"/>
            <a:ext cx="76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ух 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ность воспринимать окружающие зв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5003640" y="5800680"/>
            <a:ext cx="3961080" cy="67788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"/>
          <p:cNvSpPr/>
          <p:nvPr/>
        </p:nvSpPr>
        <p:spPr>
          <a:xfrm>
            <a:off x="1476360" y="2198520"/>
            <a:ext cx="734364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изический слух (неречев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озволяет людям различать звуки, не связанные с речью: шумы, природные звуки, музы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онематический слух (речев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(«фонема» в переводе с древне-греческого означает «звук») – это способность слышать и распознавать звуки реч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ть обращенную реч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Диана\Desktop\ses-kaynaklari-1000x600.jpg"/>
          <p:cNvPicPr/>
          <p:nvPr/>
        </p:nvPicPr>
        <p:blipFill>
          <a:blip r:embed="rId4"/>
          <a:stretch/>
        </p:blipFill>
        <p:spPr>
          <a:xfrm>
            <a:off x="5613480" y="4568760"/>
            <a:ext cx="3527280" cy="22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личение звуков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ой зву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выбирает звук, который ему предстоит «опознать», а взрослый произносит цепочку произвольных звуков, затем слогов, а впоследствии, слов. Как только ребенок услышит «свой звук», он должен хлопнуть в ладош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агазин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говорит ребенку: «Сегодня мы с тобой покупаем товары только на заданный звук». Ребенок должен назвать товары на этот звук. Например, выбираем звук «М» - молоко, масло, мандарин,  машинка, молото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грушки для Сони и Шуры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ребенком две куклы Соня и Шура и картинки со звуками «С», «Ш». Ребенку предлагается определить, чья это картинка Сонина или Шурина. У Сони те картинки, в названии которых звук «С», а у Шуры картинки, в названии которых есть звук «Ш». Ребенок распределяет картинки на две группы. Можно усложнить и предложить определить положение звука в слове (в начале, в середине, в конце слова). Начало это первый звук в слове, конец – последний звук в слове, во всех остальных случаях звук находится в середине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колько звуков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произносит различные звукосочетания, а ребенок называет количество звуков. Например, о-о-о – один, р-о-о – два, о-о-а-у – три разных звука и так да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baby18.gif"/>
          <p:cNvPicPr/>
          <p:nvPr/>
        </p:nvPicPr>
        <p:blipFill>
          <a:blip r:embed="rId1"/>
          <a:stretch/>
        </p:blipFill>
        <p:spPr>
          <a:xfrm>
            <a:off x="5867280" y="4005360"/>
            <a:ext cx="1792440" cy="260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акой звук есть в словах?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произносит три-четыре слова: шуба, кошка, мышь - и спрашивает у детей, какой звук есть во всех этих словах. Ребенок называет звук "ш". Затем предлагает определить, какой звук есть во всех ниже приведенных словах: жук, жаба, лыжи – "ж"; чайник, ключ, очки – "ч"; щетка, ящик, щавель – "щ"; коса, усы, нос – «с»; селедка, Сима, лось – "сь"; коза, замок, зуб – "з"; зима, зеркало, вазелин – "зь"; цветок, яйцо, курица – "ц"; лодка, стул, лампа – "л"; липа, лес, соль – "ль"; рыба, ковер, крыло – "р"; рис, крепость, букварь – "рь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ропущенные буквы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называет слова, пропуская один звук, задача ребенка определить, что пропущено (сне_инка, ка_тошка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6" descr="baby01.gif"/>
          <p:cNvPicPr/>
          <p:nvPr/>
        </p:nvPicPr>
        <p:blipFill>
          <a:blip r:embed="rId1"/>
          <a:stretch/>
        </p:blipFill>
        <p:spPr>
          <a:xfrm flipH="1">
            <a:off x="3131640" y="3357720"/>
            <a:ext cx="3224520" cy="314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2627280" y="0"/>
            <a:ext cx="4969080" cy="683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2960" y="2857320"/>
            <a:ext cx="82296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a9337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2" descr="baby04.gif"/>
          <p:cNvPicPr/>
          <p:nvPr/>
        </p:nvPicPr>
        <p:blipFill>
          <a:blip r:embed="rId1"/>
          <a:stretch/>
        </p:blipFill>
        <p:spPr>
          <a:xfrm>
            <a:off x="5867280" y="3978360"/>
            <a:ext cx="3276720" cy="28796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3" descr="baby20.gif"/>
          <p:cNvPicPr/>
          <p:nvPr/>
        </p:nvPicPr>
        <p:blipFill>
          <a:blip r:embed="rId2"/>
          <a:stretch/>
        </p:blipFill>
        <p:spPr>
          <a:xfrm flipH="1">
            <a:off x="1642680" y="404640"/>
            <a:ext cx="2281320" cy="264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нематическое восприят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умение определять звуковой состав слова, то есть анализировать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C:\Users\Диана\Desktop\img.jpg"/>
          <p:cNvPicPr/>
          <p:nvPr/>
        </p:nvPicPr>
        <p:blipFill>
          <a:blip r:embed="rId1"/>
          <a:stretch/>
        </p:blipFill>
        <p:spPr>
          <a:xfrm>
            <a:off x="2268360" y="3068640"/>
            <a:ext cx="3976920" cy="266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ерации фонематического вос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пределять линейную последовательность звуков в слов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пределять позицию звука в слове по отношению к его началу, середине или конц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ие или подсчет количества звуков в сло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baby18.gif"/>
          <p:cNvPicPr/>
          <p:nvPr/>
        </p:nvPicPr>
        <p:blipFill>
          <a:blip r:embed="rId1"/>
          <a:stretch/>
        </p:blipFill>
        <p:spPr>
          <a:xfrm>
            <a:off x="6012000" y="5084640"/>
            <a:ext cx="1000080" cy="145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ины нарушения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нематического слу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угоух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индром дефицита внимания и гиперактивности (СДВ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нфекционные заболевания, проблемы с пищевар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Эндокринные нару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Травмы головы и заболевания, связанные с воспалением головного мозга (энцефалит, менинги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оциальная с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чем развивать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нематический сл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жать нарушения звукопроиз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связную р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жать ошибок при чтении и письме и трудностей при изучении иностранных язы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ть словарный зап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речь была интонационно-выразитель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C:\Users\Диана\Desktop\Infants_Headphones_500963_1920x1200.jpg"/>
          <p:cNvPicPr/>
          <p:nvPr/>
        </p:nvPicPr>
        <p:blipFill>
          <a:blip r:embed="rId1"/>
          <a:stretch/>
        </p:blipFill>
        <p:spPr>
          <a:xfrm>
            <a:off x="3708360" y="4668840"/>
            <a:ext cx="3030480" cy="1895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ы развития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нематического слуха и вос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знавание неречевых зву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личение высоты, силы, тембра голоса на материале одинаковых звуков, слов, ф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личение слов близких по своему звуковому соста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азличение сло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азличение зву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азвитие навыков элементар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ового анали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6" descr="baby01.gif"/>
          <p:cNvPicPr/>
          <p:nvPr/>
        </p:nvPicPr>
        <p:blipFill>
          <a:blip r:embed="rId1"/>
          <a:stretch/>
        </p:blipFill>
        <p:spPr>
          <a:xfrm flipH="1">
            <a:off x="6156000" y="4029120"/>
            <a:ext cx="2792520" cy="272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навание неречевых зву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Угадай зву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ребенком несколько предметов, которыми можно издать какой-либо звук. Например, бутылка с водой, банка с крупой, бумага, которую можно помять или порвать, постучать ложкой о тарелку, различные погремушки, музыкальные игрушки и т.п. Показываете ребенку, какой звук издает каждый предмет, затем ребенок отворачивается или закрывает глаза. Вы издаете звук любым предметом, а ребенок должен его угад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:\Users\Ольга Юрьевна\Desktop\3258d9bf.png"/>
          <p:cNvPicPr/>
          <p:nvPr/>
        </p:nvPicPr>
        <p:blipFill>
          <a:blip r:embed="rId1"/>
          <a:stretch/>
        </p:blipFill>
        <p:spPr>
          <a:xfrm>
            <a:off x="4643280" y="4378320"/>
            <a:ext cx="4243680" cy="24796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baby12_1.gif"/>
          <p:cNvPicPr/>
          <p:nvPr/>
        </p:nvPicPr>
        <p:blipFill>
          <a:blip r:embed="rId2"/>
          <a:stretch/>
        </p:blipFill>
        <p:spPr>
          <a:xfrm>
            <a:off x="7567560" y="34920"/>
            <a:ext cx="143352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Что внутри?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ьмите одинаковые  непрозрачные коробочки, например, из-под киндер-сюрпризов. Наполните их различными крупами, фасолью, горохом, гречкой, рисом, манкой. Ребенок должен трясти коробочки и угадывать, что внутри. Предварительно вы ему показываете содержимое коробочки и даете послушать, как она звуч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Users\Ольга Юрьевна\Desktop\10.png"/>
          <p:cNvPicPr/>
          <p:nvPr/>
        </p:nvPicPr>
        <p:blipFill>
          <a:blip r:embed="rId1"/>
          <a:stretch/>
        </p:blipFill>
        <p:spPr>
          <a:xfrm>
            <a:off x="5292720" y="3933720"/>
            <a:ext cx="3095640" cy="1743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Ольга Юрьевна</cp:lastModifiedBy>
  <dcterms:modified xsi:type="dcterms:W3CDTF">2004-12-31T17:15:14Z</dcterms:modified>
  <cp:revision>153</cp:revision>
  <dc:subject/>
  <dc:title>Green Butterflies</dc:title>
</cp:coreProperties>
</file>